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AE0-741C-4975-8903-BBBD57D5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15B-9EEF-4C3E-9969-08AAE68E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D09-6CC2-4C17-A765-9900486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D4E-6332-41B7-AD31-B1A650C7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6A4-08E2-4871-AC5E-C21544E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A95-81D0-4746-9061-E371CD4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ADA-752D-4A7C-83D3-1916D8E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D89-2CC0-449C-A3C4-D044060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116-3A21-482F-8226-591C6B31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255-E6B7-4819-B77B-4854A19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7F-FACC-4F88-81BC-C48579E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6F0-B5FB-4585-BF5B-FA9E657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AF64-D6D9-46EA-A53F-3011AA55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lcohol and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Murielle Bochud, MD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ssistant professor SSPH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University Institute of Social and Preventive Medicine, Lausa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J-shaped curve for the relation betwen alcohol and total mort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680" y="631044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Di Castelnuovo et al, </a:t>
            </a:r>
            <a:r>
              <a:rPr b="0" i="1" lang="fr-FR" sz="1600" spc="-1" strike="noStrike">
                <a:solidFill>
                  <a:srgbClr val="292526"/>
                </a:solidFill>
                <a:latin typeface="Berkeley-Italic"/>
              </a:rPr>
              <a:t>Arch Intern Med. 2006;166:2437-24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534280" cy="439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2057400"/>
            <a:ext cx="26672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34 studies </a:t>
            </a:r>
            <a:br>
              <a:rPr sz="2000"/>
            </a:b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(men and wom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1’015’835 su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94’533 de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at could explain the protective role of moderate alcohol in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rat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cohol has atheroprotective effect potential du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vourable changes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 blood 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etter haemostatic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duced insulin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wer levels of systemic inflamm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To drink or not to drink, that is the ques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ow to assess alcohol in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Questionnaire data using recall (not per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Amount in standard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ypes of beverages (wine, beer, spir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ransform standard units into gram of alcoh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 unit of wine (1 dl) = 10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 unit of beer (3 dl) =  12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 unit of spirits (4 cl) = 12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Drinking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3840" y="2286000"/>
            <a:ext cx="8354880" cy="149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267080"/>
            <a:ext cx="60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In general, there is no significant health difference between individuals who consume less than 2 drinks daily and abstai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Alcohol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Alcohol is one of the most important risk factors for burden of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It explains about 7.6% of all death in men and 3.5% in women (Canada, 20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Alcohol can be a risk factor for certain disease and a protective factor for oth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hotina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hotinaMT"/>
              </a:rPr>
              <a:t>Main causes of alcohol-attributable death are unintentional injuries, malignant neoplasms and digestive dise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hotina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hotinaMT"/>
              </a:rPr>
              <a:t>Ischaemic heart disease is the biggest cause of death prevented by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400" y="638640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Rehm et al, Addiction 2006;101:373-3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iseases associated with alcohol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Cancers (liver, mouth and oropharynx, laryngeal, oesophageal, breast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ype 2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europsychiatric conditions (alcohol abuse, alcohol psychosis, depression, epilepsy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Cardiovascular disease (hypertension, ischaemic heart disease, stroke, cardiomyopathy, arrhythmais, heart failure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gestive diseases (gastritis, liver cirrhosis, acute and chronic pancreatitis, cholelithia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ntional (self-inflicted injuries, homocides, suicide, etc) and unintentional (car accidents, falls, fires, drowning, etc) 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in diseases: psori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lcohol attributable fraction (AA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47600" y="1371600"/>
          <a:ext cx="7048800" cy="3533760"/>
        </p:xfrm>
        <a:graphic>
          <a:graphicData uri="http://schemas.openxmlformats.org/drawingml/2006/table">
            <a:tbl>
              <a:tblPr/>
              <a:tblGrid>
                <a:gridCol w="4305600"/>
                <a:gridCol w="1371600"/>
                <a:gridCol w="13716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psychiatr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vascular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estive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ntentional inju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tional inju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062360" y="5410080"/>
            <a:ext cx="68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he AAF is generally defined as the proportion of the disease(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the population that will disappear if alcohol is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3400" y="638640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Rehm et al, Addiction 2006;101:373-3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4240" y="62136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Data from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The French parad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320" y="2147760"/>
            <a:ext cx="271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here is lower mort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France with resp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o other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rela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wine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3960" y="1295280"/>
            <a:ext cx="449424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9960" y="626904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St Léger et al, Lancet 1979;1:1017-1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396252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Red wine, and its antioxidant polyphenols, is thought to be particularly protective against cardiovascular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ould there be confounding factors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 the association between wine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nd cardiovascular mort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OldStyl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Subjects who drink wine tend to be of a higher socioeconomic class, are more attentive to their health, and have fewer cardiovascular risk factors (Naimi et al, </a:t>
            </a:r>
            <a:r>
              <a:rPr b="0" i="1" lang="fr-FR" sz="2000" spc="-1" strike="noStrike">
                <a:solidFill>
                  <a:srgbClr val="000000"/>
                </a:solidFill>
                <a:latin typeface="CenturyOldStyle-Italic"/>
              </a:rPr>
              <a:t>AmJ PrevMed </a:t>
            </a: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2005;28:369–3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OldStyl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Socioeconomic class is a strong determinant of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ypes of alcohol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ever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4680" y="76320"/>
            <a:ext cx="4383000" cy="658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600" y="2590920"/>
            <a:ext cx="504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 of healthier food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is related to purchase of wine over b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Odds ratios </a:t>
            </a:r>
            <a:r>
              <a:rPr b="0" i="1" lang="fr-FR" sz="2000" spc="-1" strike="noStrike">
                <a:solidFill>
                  <a:srgbClr val="000000"/>
                </a:solidFill>
                <a:latin typeface="MTMI"/>
              </a:rPr>
              <a:t>&lt;</a:t>
            </a: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1 wer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d more commonly with w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Odds ratios </a:t>
            </a:r>
            <a:r>
              <a:rPr b="0" i="1" lang="fr-FR" sz="2000" spc="-1" strike="noStrike">
                <a:solidFill>
                  <a:srgbClr val="000000"/>
                </a:solidFill>
                <a:latin typeface="MTMI"/>
              </a:rPr>
              <a:t>&gt;</a:t>
            </a: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1 indicat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d more commonly with b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172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enturyOldStyle-Regular"/>
              </a:rPr>
              <a:t>Johansen et al, </a:t>
            </a:r>
            <a:r>
              <a:rPr b="0" i="1" lang="fr-FR" sz="1600" spc="-1" strike="noStrike">
                <a:solidFill>
                  <a:srgbClr val="000000"/>
                </a:solidFill>
                <a:latin typeface="CenturyOldStyle-Italic"/>
              </a:rPr>
              <a:t>BMJ </a:t>
            </a:r>
            <a:r>
              <a:rPr b="0" lang="fr-FR" sz="1600" spc="-1" strike="noStrike">
                <a:solidFill>
                  <a:srgbClr val="000000"/>
                </a:solidFill>
                <a:latin typeface="CenturyOldStyle-Regular"/>
              </a:rPr>
              <a:t>2006;332:519–5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07:51Z</dcterms:created>
  <dc:creator>Informatique</dc:creator>
  <dc:description/>
  <dc:language>en-US</dc:language>
  <cp:lastModifiedBy>Informatique</cp:lastModifiedBy>
  <dcterms:modified xsi:type="dcterms:W3CDTF">2009-02-20T09:41:45Z</dcterms:modified>
  <cp:revision>23</cp:revision>
  <dc:subject/>
  <dc:title>Alcohol and disease</dc:title>
</cp:coreProperties>
</file>